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2CA-8007-4E3C-907F-8453BAB6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FE8-718D-4E52-BCC5-8CBBA3E3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167-C84E-4DE0-9E0A-C6E2D916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C3C-1C04-4AAE-97FE-B26CE0A4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E93E-2195-482F-9A64-6B8FC451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6F56-EBAB-48F8-B656-85A0A54F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14E-A77A-4B64-BFD0-0A33C79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2872-444D-41FB-AD08-59326FF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18B2-8523-4CD6-8C1E-1972DA1A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7983-40E7-44A7-AD58-216AB35B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6D64-EFBF-476B-BFB3-15CCEA08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7D4-81AF-4A20-A610-5B4A3CF0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B0A3-E33B-4313-8276-CEED531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D6B9-073E-4389-940F-1B9BE2BC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BB55-913A-4380-96B6-ACE1AF8C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68ED-F07F-4362-A869-2CD9AF78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66C-70EB-4A64-B0F2-CB5DAD6D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DB69-6A25-4760-B5F1-CB0DC417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CDC30-1843-4420-A3E4-E9652042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7C06-CD8C-4D60-9653-C4D1FE35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CEA5-C9FA-476E-99DA-653407CC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7C23-17F0-455F-BA0C-A436A5FE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7F8-60BA-4662-99B3-95753EF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DAF1-C767-4E03-8F13-E49AEA4C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3F06A-C068-4FE9-BA03-6BFE6F65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3EFA-E1BB-4F69-91D6-4028DBA9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976A-36DD-48F7-B05F-7C6ADB30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AC6C-937E-4C31-9203-B36FA47B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7837-B9B9-4263-B08C-7989D6DA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F3CD-C0B1-4EA3-9B03-77C72C73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0E7C-EB8B-4B28-9373-7B9E9078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3334-E287-4F34-8BDD-B5F93F67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2781-52DA-4516-8B8E-5367874C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8EC-85E5-4ED1-9DE0-C9D2D8CF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161B-07F8-438B-A416-A7CD9805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6414-051E-4E7B-9F5F-C1EA6F85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25E9-4977-4EF7-A5BD-2EF1C2D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516E-B26F-4D61-8CE9-081725D9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921D-5CAE-49C4-8295-E3C4CED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AA5EC-F482-4E1E-857F-D2A927D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F2256-575E-48DD-9D64-64C3CD1D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41CE-FCC8-467F-BA38-3E7F9891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BB81-DD72-4F40-B2BD-44B81468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29DE-1ECC-48F0-BE3F-B130C506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55C-E4E3-4543-A3B3-B99C004B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847FD-6419-4934-9585-544960E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BE6BA-7927-4F39-8D04-728C325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DD14-18EB-48F8-92A6-07B77CC2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72B5C-8EA4-491F-8A2C-77A9BF6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0AA4B-45A3-44E8-B253-82C847F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FDF3F-B7B6-4C07-8767-DC56AD9F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95D36-261F-4C2D-8009-9E4B3029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B3452-8C2B-479A-A6F9-C7016FA3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9683E-90EE-4E8D-A0B6-282B53C2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CB38E-3E49-4BF0-99BE-CEC954B0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CAE-DB78-4EA7-851D-06B37F13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E607B-F49B-4232-AEE6-89C65829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0F479-E69E-4EA0-B93E-D5A94DE5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42395-AFC9-46A9-94FC-FFE094E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1EAC3-16C7-4992-9CF9-D74F4813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C761D-77CD-4C0D-A59C-9699988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6FA6-BA9C-40BA-A9AC-CBACCED6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E15C5-4170-44AD-8858-356E0B2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1578B-D7E2-4425-A603-3E0EC797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DD4E-8BAD-4B4E-8462-5DE12B12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308E-E293-4D14-8771-71182679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EC3-ABC0-43B0-AABA-C7D1A267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7B23-1D94-492B-A6A9-9506C50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B9120-BDDD-4E92-9264-A1A4BCE5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407A3-2C10-4570-B71B-10690EC4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DB596-8246-4DAB-8583-0B500241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84BC-EF33-4943-9DFA-77A2505E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5CDE-BA3D-4D51-B3F9-21CC9BA4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6C999-7F34-4E4E-A64E-1947E5A2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837D1-79C3-4DBA-BDFA-1D461C8C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379F-35E8-4CB3-A8BD-DEF40D60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BC32F-9831-4ABC-96AC-CAC4F68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E9F-4AED-43B8-8183-A2F5B24F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76743-9FE2-4DE0-BA21-60E3A39E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487F4-BF3F-436E-AAAD-D8684AC6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63EE-115F-4753-9FBA-7150F02F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0082-D3E3-433E-87BB-820EF0F6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430D-8FB1-4684-ABBB-D2DFBD5A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859-4254-4CB4-BC9F-9088B287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1E5A-711C-4C8F-B073-83E792CC23B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C9F-CEF9-4362-803D-C997F940D1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8371-4770-418C-AA20-2CC2CA6F64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05BC-45E5-4ABB-9C81-9008B792BF8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7FE-905A-483C-840E-8306D2DC99A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3E04-22F8-47F2-9AB6-DB530E69326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08D3-080C-43A8-BA4F-CBD42D30219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44440" y="639720"/>
            <a:ext cx="807084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drew Lee, Jen Harchut, Glenn Van Orden, Roy Ge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tion of gas particles is rapid, constant, and random all collisions between gas particles are elast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7" name="Picture 2" descr="http://www-personal.umich.edu/~lpt/oxlabel_files/oxlabel.gif"/>
          <p:cNvPicPr/>
          <p:nvPr/>
        </p:nvPicPr>
        <p:blipFill>
          <a:blip r:embed="rId2"/>
          <a:stretch/>
        </p:blipFill>
        <p:spPr>
          <a:xfrm>
            <a:off x="2895480" y="3581280"/>
            <a:ext cx="2284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the particles in a liquid are attracted to each ot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2" descr="http://www.a2gov.org/government/publicservices/water_treatment/PublishingImages/water_drop.JPG"/>
          <p:cNvPicPr/>
          <p:nvPr/>
        </p:nvPicPr>
        <p:blipFill>
          <a:blip r:embed="rId2"/>
          <a:stretch/>
        </p:blipFill>
        <p:spPr>
          <a:xfrm>
            <a:off x="2743200" y="3048120"/>
            <a:ext cx="37908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ticles have fixed locations, and vibrate rapidly as kinetic energy increa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Picture 2" descr="http://blogs.msdn.com/blogfiles/cdndevs/WindowsLiveWriter/DimeCast.NetsSOLIDScreencasts_6954/solid_brick_3.jpg"/>
          <p:cNvPicPr/>
          <p:nvPr/>
        </p:nvPicPr>
        <p:blipFill>
          <a:blip r:embed="rId2"/>
          <a:stretch/>
        </p:blipFill>
        <p:spPr>
          <a:xfrm>
            <a:off x="3352680" y="2895480"/>
            <a:ext cx="25146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ystal system- 7 groups that crystals are classified into with different characterist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it cell- smallest group of particles within the crystals that retains its geometric shap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chemed.chem.purdue.edu/genchem/topicreview/bp/ch13/graphics/13_19.gif"/>
          <p:cNvPicPr/>
          <p:nvPr/>
        </p:nvPicPr>
        <p:blipFill>
          <a:blip r:embed="rId2"/>
          <a:stretch/>
        </p:blipFill>
        <p:spPr>
          <a:xfrm>
            <a:off x="2514600" y="3809880"/>
            <a:ext cx="378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amonds have high density and are very har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aphite has low density and is flexible and slippery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llerenes have strength and are rigi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http://upload.wikimedia.org/wikipedia/commons/thumb/d/d7/Rough_diamond.jpg/240px-Rough_diamond.jpg"/>
          <p:cNvPicPr/>
          <p:nvPr/>
        </p:nvPicPr>
        <p:blipFill>
          <a:blip r:embed="rId2"/>
          <a:stretch/>
        </p:blipFill>
        <p:spPr>
          <a:xfrm>
            <a:off x="685800" y="4419720"/>
            <a:ext cx="2286000" cy="1724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upload.wikimedia.org/wikipedia/commons/thumb/f/f3/GraphiteUSGOV.jpg/240px-GraphiteUSGOV.jpg"/>
          <p:cNvPicPr/>
          <p:nvPr/>
        </p:nvPicPr>
        <p:blipFill>
          <a:blip r:embed="rId3"/>
          <a:stretch/>
        </p:blipFill>
        <p:spPr>
          <a:xfrm>
            <a:off x="3352680" y="4419720"/>
            <a:ext cx="2286000" cy="2238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upload.wikimedia.org/wikipedia/commons/thumb/c/c5/Fullerene_c540.png/220px-Fullerene_c540.png"/>
          <p:cNvPicPr/>
          <p:nvPr/>
        </p:nvPicPr>
        <p:blipFill>
          <a:blip r:embed="rId4"/>
          <a:stretch/>
        </p:blipFill>
        <p:spPr>
          <a:xfrm>
            <a:off x="6324480" y="434340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morphous solids where there is no ordered arrangement of partic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http://steelguru.com/uploads/reports/sss1-29-08-2008.jpg"/>
          <p:cNvPicPr/>
          <p:nvPr/>
        </p:nvPicPr>
        <p:blipFill>
          <a:blip r:embed="rId2"/>
          <a:stretch/>
        </p:blipFill>
        <p:spPr>
          <a:xfrm>
            <a:off x="2666880" y="3124080"/>
            <a:ext cx="39243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45:22Z</dcterms:created>
  <dc:creator>14alee</dc:creator>
  <dc:description/>
  <dc:language>en-US</dc:language>
  <cp:lastModifiedBy>14alee</cp:lastModifiedBy>
  <dcterms:modified xsi:type="dcterms:W3CDTF">2012-04-26T13:08:56Z</dcterms:modified>
  <cp:revision>3</cp:revision>
  <dc:subject/>
  <dc:title>Chemistry Stuff</dc:title>
</cp:coreProperties>
</file>